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0386-B1A3-4062-AC57-167A6624E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67EA-F5F4-455D-99CC-039B354AB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44CD-1509-4EA8-9756-E09AFF56B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E12F-2741-4BA8-85CE-C69B1A99F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13561-CFFF-483D-8CE2-0CE1D5468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47EB9-A23A-432F-A415-D1F6607B9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AF283-821C-49FB-9863-A3A4D7A85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4A6A7-8721-476C-B37E-9F629CCC1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2B3BD-B31C-4313-80E9-CA5419200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7465C-4756-4198-BFED-D721BC7BC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49D40-887C-48D3-A8EC-AA1C9EB9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7402-105C-4360-A613-5EC5E5F8D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3A9B4-A832-4A50-9FF3-7600B4C8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550EA-84B6-411E-9AA3-8856F850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4DB38-3D4C-4C3B-AFBE-7C50E5B64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00D37-5F52-49BB-8ED5-67648DDE8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C75B3-43D2-4FB6-8DAA-DD2DA2DBA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4F58C-AC5B-4EF1-98CA-C0205CF2D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32B1-FD2E-454A-9548-22FECBDB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B492-51D3-433C-A355-05F54E11A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6999-59F6-414B-8A5A-6FD5BCA84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15BC-6088-43CD-A5E8-033CCAE12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6641-F7CA-4C09-8140-D29814C2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0951-767C-46D1-A7B5-2DF92C59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D956E-0D49-4ECC-BBD6-D024D8AF328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22799-1A14-4A0D-AC98-ADD37C01E45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yarrarangesnetwork.wikispaces.com/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258920" y="5157360"/>
            <a:ext cx="633744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arra Ranges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Q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2987640" y="549360"/>
            <a:ext cx="3024360" cy="19828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539640" y="2708280"/>
            <a:ext cx="799308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Enhancing literacy and numeracy 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outcomes through eLearning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800" spc="-1" strike="noStrike">
                <a:solidFill>
                  <a:srgbClr val="ffff00"/>
                </a:solidFill>
                <a:latin typeface="Arial"/>
              </a:rPr>
              <a:t>Network wiki</a:t>
            </a:r>
            <a:br>
              <a:rPr sz="3800"/>
            </a:br>
            <a:r>
              <a:rPr b="0" lang="en-AU" sz="3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yarrarangesnetwork.wikispaces.com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1552680"/>
            <a:ext cx="662472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</a:rPr>
              <a:t>Meeting program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000" y="980640"/>
            <a:ext cx="813564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elcome back; welcome to new particip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Needs and skills data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ome paperwork: Participant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troductions - Meet same-level colleagues across the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ink, Pair, Sh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artnership and Team formation for school based professional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Learning and planning for tr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0000"/>
                </a:solidFill>
                <a:latin typeface="Arial"/>
              </a:rPr>
              <a:t>Level 1: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Photostory with </a:t>
            </a:r>
            <a:r>
              <a:rPr b="0" lang="en-AU" sz="2000" spc="-1" strike="noStrike">
                <a:solidFill>
                  <a:srgbClr val="6600cc"/>
                </a:solidFill>
                <a:latin typeface="Arial"/>
              </a:rPr>
              <a:t>Cathy Blackb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teractive Whiteboards with </a:t>
            </a:r>
            <a:r>
              <a:rPr b="0" lang="en-AU" sz="2000" spc="-1" strike="noStrike">
                <a:solidFill>
                  <a:srgbClr val="6600cc"/>
                </a:solidFill>
                <a:latin typeface="Arial"/>
              </a:rPr>
              <a:t>Judy Drew &amp; David Pelo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0000"/>
                </a:solidFill>
                <a:latin typeface="Arial"/>
              </a:rPr>
              <a:t>Level 2: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Photostory with </a:t>
            </a:r>
            <a:r>
              <a:rPr b="0" lang="en-AU" sz="2000" spc="-1" strike="noStrike">
                <a:solidFill>
                  <a:srgbClr val="6600cc"/>
                </a:solidFill>
                <a:latin typeface="Arial"/>
              </a:rPr>
              <a:t>Cathy Blackb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teractive Whiteboards with </a:t>
            </a:r>
            <a:r>
              <a:rPr b="0" lang="en-AU" sz="2000" spc="-1" strike="noStrike">
                <a:solidFill>
                  <a:srgbClr val="6600cc"/>
                </a:solidFill>
                <a:latin typeface="Arial"/>
              </a:rPr>
              <a:t>Peter Humphr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0000"/>
                </a:solidFill>
                <a:latin typeface="Arial"/>
              </a:rPr>
              <a:t>Level 3: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Wikis with </a:t>
            </a:r>
            <a:r>
              <a:rPr b="0" lang="en-AU" sz="2000" spc="-1" strike="noStrike">
                <a:solidFill>
                  <a:srgbClr val="6600cc"/>
                </a:solidFill>
                <a:latin typeface="Arial"/>
              </a:rPr>
              <a:t>Cathy Blackb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teractive Whiteboards with </a:t>
            </a:r>
            <a:r>
              <a:rPr b="0" lang="en-AU" sz="2000" spc="-1" strike="noStrike">
                <a:solidFill>
                  <a:srgbClr val="6600cc"/>
                </a:solidFill>
                <a:latin typeface="Arial"/>
              </a:rPr>
              <a:t>Peter Humphr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0000"/>
                </a:solidFill>
                <a:latin typeface="Arial"/>
              </a:rPr>
              <a:t>Level 4: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Wikis with </a:t>
            </a:r>
            <a:r>
              <a:rPr b="0" lang="en-AU" sz="2000" spc="-1" strike="noStrike">
                <a:solidFill>
                  <a:srgbClr val="6600cc"/>
                </a:solidFill>
                <a:latin typeface="Arial"/>
              </a:rPr>
              <a:t>Cathy Blackb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teractive Whiteboards with </a:t>
            </a:r>
            <a:r>
              <a:rPr b="0" lang="en-AU" sz="2000" spc="-1" strike="noStrike">
                <a:solidFill>
                  <a:srgbClr val="6600cc"/>
                </a:solidFill>
                <a:latin typeface="Arial"/>
              </a:rPr>
              <a:t>Simon Pr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Network wi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18920" y="259920"/>
            <a:ext cx="60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</a:rPr>
              <a:t>Ways we work together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16000" y="1197000"/>
            <a:ext cx="712944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n with empathy and underst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pt a shared sense of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pt respectful collab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problems construct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er judgements / keep an open m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knowledge diversity and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and act with positive i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constructive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 eth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opportunities to enjoy working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</a:rPr>
              <a:t>Data collection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24000" y="836640"/>
          <a:ext cx="8496000" cy="521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836640"/>
                    <a:ext cx="8496000" cy="521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395280" y="621648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wo most commonly requested areas at each level were selected for the September mee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</a:rPr>
              <a:t>Participant forms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720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QTP requirement that participants complete these forms – please complete and return to me before you leave this afterno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00720" y="404640"/>
            <a:ext cx="4378320" cy="61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Arial"/>
              </a:rPr>
              <a:t>Introductions &amp; Think, Pair, Share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77724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Introdu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nk, Pair, Share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lect on the taster sessions from our first meeting 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chester P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Literacy with David Pelo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Numeracy with Peter Humphr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, if any, ideas have you been able to implement with your class since this sess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successful have they be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? / Why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O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an eLearning strategy or tool you have used recently with your class, commenting on your purpose and its suc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cord your partner’s experience on a post-it note along with their name and sch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Group with like experiences on the butchers’ p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</a:rPr>
              <a:t>Partnership &amp; Team formation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arning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tion of needs-based partnerships and teams to organise coaching, team-teaching and modelling /peer observation in our respective 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ggested possible groupings at Level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47800" y="4581360"/>
            <a:ext cx="1371600" cy="86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 u="sng">
                <a:solidFill>
                  <a:srgbClr val="000000"/>
                </a:solidFill>
                <a:uFillTx/>
                <a:latin typeface="Times New Roman"/>
              </a:rPr>
              <a:t>IW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48000" y="4581360"/>
            <a:ext cx="1486080" cy="86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Wik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62680" y="4581360"/>
            <a:ext cx="1371600" cy="86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Podca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47800" y="5610240"/>
            <a:ext cx="137160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Online 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348000" y="5610240"/>
            <a:ext cx="148608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Communicator / Sk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62680" y="5610240"/>
            <a:ext cx="137160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</a:rPr>
              <a:t>eLearning &amp; Planning for Trials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Arial"/>
              </a:rPr>
              <a:t>Level 1: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Photostory with </a:t>
            </a:r>
            <a:r>
              <a:rPr b="0" lang="en-AU" sz="2400" spc="-1" strike="noStrike">
                <a:solidFill>
                  <a:srgbClr val="6600cc"/>
                </a:solidFill>
                <a:latin typeface="Arial"/>
              </a:rPr>
              <a:t>Cathy Blackb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teractive Whiteboards with </a:t>
            </a:r>
            <a:r>
              <a:rPr b="0" lang="en-AU" sz="2400" spc="-1" strike="noStrike">
                <a:solidFill>
                  <a:srgbClr val="6600cc"/>
                </a:solidFill>
                <a:latin typeface="Arial"/>
              </a:rPr>
              <a:t>Judy Drew &amp; David Pelo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Arial"/>
              </a:rPr>
              <a:t>Level 2: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Photostory with </a:t>
            </a:r>
            <a:r>
              <a:rPr b="0" lang="en-AU" sz="2400" spc="-1" strike="noStrike">
                <a:solidFill>
                  <a:srgbClr val="6600cc"/>
                </a:solidFill>
                <a:latin typeface="Arial"/>
              </a:rPr>
              <a:t>Cathy Blackb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teractive Whiteboards with </a:t>
            </a:r>
            <a:r>
              <a:rPr b="0" lang="en-AU" sz="2400" spc="-1" strike="noStrike">
                <a:solidFill>
                  <a:srgbClr val="6600cc"/>
                </a:solidFill>
                <a:latin typeface="Arial"/>
              </a:rPr>
              <a:t>Peter Humphr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Arial"/>
              </a:rPr>
              <a:t>Level 3: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Wikis with </a:t>
            </a:r>
            <a:r>
              <a:rPr b="0" lang="en-AU" sz="2400" spc="-1" strike="noStrike">
                <a:solidFill>
                  <a:srgbClr val="6600cc"/>
                </a:solidFill>
                <a:latin typeface="Arial"/>
              </a:rPr>
              <a:t>Cathy Blackb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teractive Whiteboards with </a:t>
            </a:r>
            <a:r>
              <a:rPr b="0" lang="en-AU" sz="2400" spc="-1" strike="noStrike">
                <a:solidFill>
                  <a:srgbClr val="6600cc"/>
                </a:solidFill>
                <a:latin typeface="Arial"/>
              </a:rPr>
              <a:t>Peter Humphr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Arial"/>
              </a:rPr>
              <a:t>Level 4: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Wikis with </a:t>
            </a:r>
            <a:r>
              <a:rPr b="0" lang="en-AU" sz="2400" spc="-1" strike="noStrike">
                <a:solidFill>
                  <a:srgbClr val="6600cc"/>
                </a:solidFill>
                <a:latin typeface="Arial"/>
              </a:rPr>
              <a:t>Cathy Blackb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teractive Whiteboards with </a:t>
            </a:r>
            <a:r>
              <a:rPr b="0" lang="en-AU" sz="2400" spc="-1" strike="noStrike">
                <a:solidFill>
                  <a:srgbClr val="6600cc"/>
                </a:solidFill>
                <a:latin typeface="Arial"/>
              </a:rPr>
              <a:t>Simon P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507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Arial"/>
              </a:rPr>
              <a:t>Literacy &amp; Numeracy Tool Reflection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4" name="AGQTP Logo" descr=""/>
          <p:cNvPicPr/>
          <p:nvPr/>
        </p:nvPicPr>
        <p:blipFill>
          <a:blip r:embed="rId1"/>
          <a:stretch/>
        </p:blipFill>
        <p:spPr>
          <a:xfrm>
            <a:off x="615960" y="-6127920"/>
            <a:ext cx="1104840" cy="7146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15960" y="-4681440"/>
            <a:ext cx="7086600" cy="3715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72880" y="-6127920"/>
            <a:ext cx="1287720" cy="80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-614520" y="-4579920"/>
            <a:ext cx="708660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5960" y="-612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5960" y="-6127920"/>
            <a:ext cx="360" cy="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3800" y="-5368320"/>
            <a:ext cx="4908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YARRA RANGES AGQTP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nhancing Literacy and Numeracy Outcomes Through e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5960" y="-4681440"/>
            <a:ext cx="360" cy="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40240" y="-4309560"/>
            <a:ext cx="48441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Name: _______________________   Class Year Level: 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Choose a tool / eLearning strategy to try in your classro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15960" y="-3713040"/>
          <a:ext cx="6616800" cy="1460520"/>
        </p:xfrm>
        <a:graphic>
          <a:graphicData uri="http://schemas.openxmlformats.org/drawingml/2006/table">
            <a:tbl>
              <a:tblPr/>
              <a:tblGrid>
                <a:gridCol w="3308400"/>
                <a:gridCol w="330840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me of the tool / strate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bsite address (if applicabl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ttp:/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w do you plan to implement it within your literacy curriculum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w do you expect it to support your students’ learning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586080" y="-2199600"/>
            <a:ext cx="7963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Now that you have tried this tool / eLearning strategy, which literacy skills does this tool assist students to develop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7040" y="12435840"/>
            <a:ext cx="636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Would you use this tool / strategy again? Give reasons for your 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What modifications, if any, would you make to the integration of this tool / strategy into your program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commendations to other teach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95280" y="1197000"/>
            <a:ext cx="3840120" cy="53499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4788000" y="1197000"/>
            <a:ext cx="398772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03:47:22Z</dcterms:created>
  <dc:creator>02167970</dc:creator>
  <dc:description/>
  <dc:language>en-US</dc:language>
  <cp:lastModifiedBy>02167970</cp:lastModifiedBy>
  <dcterms:modified xsi:type="dcterms:W3CDTF">2009-09-17T01:30:43Z</dcterms:modified>
  <cp:revision>59</cp:revision>
  <dc:subject/>
  <dc:title>Enhancing literacy and numeracy outcomes through eLearning</dc:title>
</cp:coreProperties>
</file>